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A04C-0D5F-4DD9-A7C7-3BAEF67AB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9F6A-4498-467D-8F45-78078840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B321-8C21-4BC7-8375-473E7D009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5FE6-BCCB-4AD9-A0DF-4A353803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C712-1EA1-4A5D-A70D-E73E85A3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F65C-E7BC-49F9-BF4B-2A4E7B9D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FE56-3DA1-4449-AC18-96B5250D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5A1A-10EE-4FE1-BE3B-ED00D56C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91B2-8727-4A41-86D6-1DC3212E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-90360"/>
            <a:ext cx="7772400" cy="77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ACE6-7BE7-4268-884C-4048C412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932E-9649-46CC-80E6-C5D3557D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0B69-48F1-4D96-BC3D-44685BC3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C073-DD77-4A8C-AFB2-85EFE76D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F000-E43B-457C-8618-DE405CA4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E306-F737-4462-824B-4FF796AB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39FD-6BD3-462C-A571-FE90DAC5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320B-26EC-4D5B-AB04-848BC217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28ED-A5EF-4B4F-9F89-8EBDFE49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5A5E-20F1-41C7-9BD1-830D9AE0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ABE8-1431-43A1-B516-CF69B6D6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-90360"/>
            <a:ext cx="7772400" cy="77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D79E-5CCA-48C3-9FBF-3BED9681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6BEF-D6F2-4D65-AA24-2AC4633D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9754-DF69-44CB-A781-96D31A47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07E1-A2F7-4FD9-9677-3509C133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09E3-7E9A-4903-BA74-802FEB6AD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5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AutoShape 6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8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9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1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2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3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7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0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1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2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3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4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25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7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E708-341F-44A9-BD71-E039F726C4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Rocks and Minerals - Direction Guide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47920" y="312408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•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lide 1 - Name of Rock/Mineral and its Propertie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•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lide 2 - Where is this rock/mineral found?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•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lide 3 - How is this rock/mineral used?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LL SLIDES MUST INCLUDE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 picture or drawing related to your rock/minera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ppropriate slide layout for each slid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nsistent slide design for entire powerpoin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ccurate and complete informat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1440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The properties of Pumice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47720" y="2327400"/>
            <a:ext cx="32292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dcd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on-metallic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of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oes not have cleavag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reaks whit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gneous rock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loats on water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4915080" y="2475000"/>
            <a:ext cx="384624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Pumice??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Where is it found?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umice deposits are found in areas with young volcanic fields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 US, pumice is produced in Arizona, California, New Mexico, and Oregon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5067360" y="2124000"/>
            <a:ext cx="384804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Pumice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How is it used?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o make light weight construction materials such as concret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brasiv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orticultur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andscap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ashing blue jean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067360" y="2133720"/>
            <a:ext cx="384804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17:49:30Z</dcterms:created>
  <dc:creator>Jill Adams</dc:creator>
  <dc:description/>
  <dc:language>en-US</dc:language>
  <cp:lastModifiedBy>Melissa E Hamm</cp:lastModifiedBy>
  <dcterms:modified xsi:type="dcterms:W3CDTF">2011-03-18T15:57:03Z</dcterms:modified>
  <cp:revision>6</cp:revision>
  <dc:subject/>
  <dc:title>Name of Rock/Mineral</dc:title>
</cp:coreProperties>
</file>